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FBC-74E1-4839-91B1-F7ABE863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145-96EC-4E56-A798-9FE57CE4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AB8-8925-49CD-952C-A3FDCA5B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7BF-9237-4621-90CA-86546435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1BA3-BC8B-4201-97AC-98E4A9CB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082F-B67B-4221-BD23-24681D85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36F7-C42C-4491-BC79-528C4FB3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72E8-E9BF-4FF4-8605-4AF1720A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487-1F85-4041-9D5F-94AC1D2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E8E0-6FCD-4E54-B6A3-BEE6451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278A-61DC-43D8-90E1-A0D60EE4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BC1-5137-4D26-A474-97E1A95C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A6B-C7A2-4DDE-90FB-FB8DBBA6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9A46-05DF-47B4-969C-542961A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2949-5FDE-487A-B804-9730F2F1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98EC-FA21-45D9-A4AE-187D391C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A355-C0F7-4CA5-BEB0-D7F9185D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45B-D82E-4B34-9D3D-E0322A88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89D-DF88-4FFF-AEE0-722901C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17A-9962-4150-B7FF-A1974345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3CA-2CAF-4ABF-A36D-DC152CA9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A54-A2EE-43D9-A07D-984DF5FE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DA4-6D50-471E-A079-95114339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C43-D604-4102-9AD8-756CFFF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BB16-BB68-4A25-80F7-80A25CCF5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A3C1-373E-4E96-A483-BFC7FAD56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unglephotos.com/amazon/amplants/trees/trees2.shtml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junglephotos.com/amazon/amplants/grasses/grasses.shtml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junglephotos.com/amazon/amplants/palms/palms.shtml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junglephotos.com/amazon/amplants/palms/palms2.shtml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Jungl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habitat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abitat is an environment that someone or something live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0" y="1905120"/>
            <a:ext cx="201924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44152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191120" y="3048120"/>
            <a:ext cx="1768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jungle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jungle is land that is overgrown with tropical veget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2949480" cy="297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2771640" cy="1811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2666880"/>
            <a:ext cx="1882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nimals live in the jungle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3157560" cy="2111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2390760" cy="2828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676680" cy="245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4952880"/>
            <a:ext cx="2210040" cy="165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620120" y="1523880"/>
            <a:ext cx="7714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kind of plants are in the jungle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cercropia tree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523880"/>
            <a:ext cx="2857320" cy="190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bamboo pho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809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eart palm phot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1828800"/>
            <a:ext cx="2265480" cy="346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palm epiphytes phot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2666880"/>
            <a:ext cx="224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jungle animals protect themselves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829320" cy="2872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00600" y="1981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mouf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62720" y="2743200"/>
            <a:ext cx="30668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jungle animals get food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un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5857920" cy="312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02:04Z</dcterms:created>
  <dc:creator>Eldred Central School</dc:creator>
  <dc:description/>
  <dc:language>en-US</dc:language>
  <cp:lastModifiedBy>Eldred Central School</cp:lastModifiedBy>
  <dcterms:modified xsi:type="dcterms:W3CDTF">2010-06-30T19:00:11Z</dcterms:modified>
  <cp:revision>5</cp:revision>
  <dc:subject/>
  <dc:title>The Jungle</dc:title>
</cp:coreProperties>
</file>